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81A-7CAC-44CE-B991-291C4CBC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974-501C-45B2-B6AE-58D34DB7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7EE-6A03-4653-B2A8-250F8E18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126-9EE9-447F-BF09-B302B2A8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222-FEDF-4E3E-905E-D834E5D0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24D-B6F4-49B9-9CC3-3D0FEC99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00C-5DF1-42EC-8704-4F29E10E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266-CE86-44EF-8BBF-0CC032EC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82C-4FBF-4B14-871B-6FB878C3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BF8-A1AB-456B-8A8F-C0F52783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0EC-66F7-47AE-AAAF-2865FFC1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F4C-8A01-4FB8-A051-A79F656A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322C-8DA7-48D2-BADD-72C815356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gbog.com/gallery/russia_pictures/russia_pictures_st_pete_1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askerville Old Face"/>
              </a:rPr>
              <a:t>Its always tougher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erlin Sans FB"/>
              </a:rPr>
              <a:t>By Wayne and Coll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4953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ussia was very strict but they gained their    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government told everyone what to do but now people can decide for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reedom can’t always help them because they may become un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2184480" cy="2425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Baskerville Old Face"/>
              </a:rPr>
              <a:t>Russia’s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Britannic Bold"/>
              </a:rPr>
              <a:t>In Russia, there is a lot of pol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Britannic Bold"/>
              </a:rPr>
              <a:t>Pollution can have a bad effect not because it is bad already, but because it affects tourists and the econ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Britannic Bold"/>
              </a:rPr>
              <a:t>Pollution in Russia can affect tourists because tourists won’t want to come visit an area with unhealthy pol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Britannic Bold"/>
              </a:rPr>
              <a:t>Pollution can affect the economy because if tourists don’t want to come there is a big decrease in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Russia pictures - Red Square pho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 Black"/>
              </a:rPr>
              <a:t>People of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Unicode MS"/>
              </a:rPr>
              <a:t>Russia is one of the most populated countries in the world with a population of 145.5 m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Unicode MS"/>
              </a:rPr>
              <a:t>90% of them speak the Russian language 75% of Russians live in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Unicode MS"/>
              </a:rPr>
              <a:t>The apartment buildings are very small and cramped some hold over 10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5 0.00555 L 0.01667 0.00555 E">
                                      <p:cBhvr>
                                        <p:cTn id="148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Clim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Castellar"/>
              </a:rPr>
              <a:t>Most of Russia is a subarctic climate. Two other parts of Russia are steppe, humid continental, and tundra clim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Castellar"/>
              </a:rPr>
              <a:t>Most people live in Western Russia because they have steppe, and humid continental which are better for far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85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38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38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385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38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38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38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7:10:30Z</dcterms:created>
  <dc:creator> </dc:creator>
  <dc:description/>
  <dc:language>en-US</dc:language>
  <cp:lastModifiedBy> </cp:lastModifiedBy>
  <dcterms:modified xsi:type="dcterms:W3CDTF">2010-12-20T17:16:10Z</dcterms:modified>
  <cp:revision>4</cp:revision>
  <dc:subject/>
  <dc:title>Its always tougher in Russia</dc:title>
</cp:coreProperties>
</file>